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D80-B7F0-461C-8507-E25DF6FC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27C-2BC0-4EE2-A0FC-5434B9C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A33-D4A6-4F23-907D-7CF8CF32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B64-D6D3-4219-8764-02ADBFAD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C87-5D26-45D5-BDA4-3801049E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64B-92A9-43E4-95EA-A8D2BDA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F30-3DD5-4E19-B162-A8AC876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72B-6F90-4A49-A297-BD6B6CC0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1EF-7961-421A-970F-6EBC1BE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466-16B1-4882-AD2D-C5785A0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D19-4C19-4743-99FE-E1E312D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FFF-C70D-45FD-85FD-16D70A3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86D5-6E72-4395-8057-EF186943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96800"/>
            <a:ext cx="8305920" cy="63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О, Боже, Ти бъд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за мен прибеж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 </a:t>
            </a: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вечно спасе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дари ми Ти от грех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от смърт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25520"/>
            <a:ext cx="8305920" cy="63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Зная с Теб ще съ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твърд, непобед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смел силен съ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щом съм с Те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Ще пребъдвам в Теб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96800"/>
            <a:ext cx="8305920" cy="63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О, Боже, Ти бъд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за мен прибеж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 </a:t>
            </a: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вечно спасе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дари ми Ти от грех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от смърт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425520"/>
            <a:ext cx="8305920" cy="63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Зная с Теб ще съ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твърд, непобед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и смел силен съ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щом съм с Те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Bookman Old Style"/>
                <a:ea typeface="Arial"/>
              </a:rPr>
              <a:t>Ще пребъдвам в Теб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2:08Z</dcterms:created>
  <dc:creator>TrifonTrifonow</dc:creator>
  <dc:description/>
  <dc:language>en-US</dc:language>
  <cp:lastModifiedBy>TrifonTrifonow</cp:lastModifiedBy>
  <dcterms:modified xsi:type="dcterms:W3CDTF">2005-09-19T10:00:08Z</dcterms:modified>
  <cp:revision>4</cp:revision>
  <dc:subject/>
  <dc:title>Slide 1</dc:title>
</cp:coreProperties>
</file>